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七章：分类和协议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分类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"/>
          <p:cNvSpPr/>
          <p:nvPr/>
        </p:nvSpPr>
        <p:spPr>
          <a:xfrm>
            <a:off x="1041480" y="2482920"/>
            <a:ext cx="10922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分类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category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允许为已经封装好了的类添加新的方法，是一种对类功能进行扩展的新手段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"/>
          <p:cNvSpPr/>
          <p:nvPr/>
        </p:nvSpPr>
        <p:spPr>
          <a:xfrm>
            <a:off x="406440" y="5359320"/>
            <a:ext cx="4927680" cy="3353040"/>
          </a:xfrm>
          <a:prstGeom prst="roundRect">
            <a:avLst>
              <a:gd name="adj" fmla="val 5681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@interface </a:t>
            </a:r>
            <a:r>
              <a:rPr b="0" lang="zh-CN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名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Chalkboard"/>
                <a:ea typeface="Heiti SC Light"/>
              </a:rPr>
              <a:t>分类名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方法定义；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@en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4495680"/>
            <a:ext cx="3746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分类的声明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"/>
          <p:cNvSpPr/>
          <p:nvPr/>
        </p:nvSpPr>
        <p:spPr>
          <a:xfrm>
            <a:off x="6350040" y="5359320"/>
            <a:ext cx="5854680" cy="3353040"/>
          </a:xfrm>
          <a:prstGeom prst="roundRect">
            <a:avLst>
              <a:gd name="adj" fmla="val 5681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@implementation </a:t>
            </a:r>
            <a:r>
              <a:rPr b="0" lang="zh-CN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名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Chalkboard"/>
                <a:ea typeface="Heiti SC Light"/>
              </a:rPr>
              <a:t>分类名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方法实现；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@en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"/>
          <p:cNvSpPr/>
          <p:nvPr/>
        </p:nvSpPr>
        <p:spPr>
          <a:xfrm>
            <a:off x="6667560" y="4495680"/>
            <a:ext cx="3746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分类的实现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346040" y="3162240"/>
            <a:ext cx="98298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@interface  Person(work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表示为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Person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声明一个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work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分类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@interface Person(student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表示为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Person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声明一个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student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分类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注意：</a:t>
            </a: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在分类只可以添加方法，而不可以添加新变量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2080" y="2234880"/>
            <a:ext cx="1172196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尽管分类可以访问原始类的实例变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但是它不能添加自身的任何变量。 如果需要添加实例变量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可以考虑创建子类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分类可以重载该类中的另一个方法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但是通常认为这种做法不可取。因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重载之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再不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能访问原来的方法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拥有很多分类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通过使用分类添加新方法来扩展类不仅会影响这个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同时也会影响它的所有子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协议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"/>
          <p:cNvSpPr/>
          <p:nvPr/>
        </p:nvSpPr>
        <p:spPr>
          <a:xfrm>
            <a:off x="774720" y="2432160"/>
            <a:ext cx="116460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协议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protocol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是一个命名的方法列表，是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非常重要的语言特性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1130400" y="4788000"/>
            <a:ext cx="4724280" cy="2273040"/>
          </a:xfrm>
          <a:prstGeom prst="roundRect">
            <a:avLst>
              <a:gd name="adj" fmla="val 838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@protoco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协议名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方法定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@en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>
            <a:off x="1897200" y="3940560"/>
            <a:ext cx="203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协议定义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888840" y="8217000"/>
            <a:ext cx="10846080" cy="1066680"/>
          </a:xfrm>
          <a:prstGeom prst="roundRect">
            <a:avLst>
              <a:gd name="adj" fmla="val 17856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@interface </a:t>
            </a:r>
            <a:r>
              <a:rPr b="0" lang="zh-CN" sz="2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名：父类名  </a:t>
            </a: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&lt;</a:t>
            </a:r>
            <a:r>
              <a:rPr b="0" lang="zh-CN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协议名</a:t>
            </a: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，协议名</a:t>
            </a: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，协议名</a:t>
            </a: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，</a:t>
            </a: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Heiti SC Light"/>
              </a:rPr>
              <a:t>. . .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1985760" y="7318800"/>
            <a:ext cx="203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采用协议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协议中方法修饰指令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912960" y="2730600"/>
            <a:ext cx="111758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2.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添加了两个新的协议修饰符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@optional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: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表示该方法可以被选择实现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@required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默认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: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表示该方法必须要实现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2273400"/>
            <a:ext cx="11747520" cy="660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协议是多个类共享的一个方法列表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协议中只列出方法的声明，由其他类来实现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任何类都可以遵守某项协议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@protocol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令来定义协议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现一个协议的方法：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@interface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行的一对尖括号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</a:rPr>
              <a:t>&lt;...&gt;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列出协议名称，如果你的类要采用多项协议，只需把它们都列在尖括号中，用逗号分开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60240" y="1981080"/>
            <a:ext cx="11684160" cy="725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果一个类遵守某项协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那么它的子类也遵守该协议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通过在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id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类型名称之后的尖括号中添加协议名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借助编译器的帮助来检查变量的一致性，               如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: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id&lt;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协议名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&gt;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变量名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果这个变量保存的对象遵守多项协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则可以列出多项协议                                                                       如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: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id&lt;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协议名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，协议名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，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. . .&gt;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变量名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